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8CC-02EC-42D6-8572-0AAFBD49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AF3-4143-4AD1-946E-44978F09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44B-438F-49F6-B2F4-E19CCD5F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020-BB09-405A-98D7-1CD07BA8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26E6-7ADA-46CD-B92E-1029B188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C24B-CF19-4B0E-B2D2-6B86897E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01AF-6A6B-4531-8FF9-E298182C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ED1D-6106-484F-961C-B25314F7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1A94-8060-4A84-96DB-E7EA7C5A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6058-B88F-45F3-A258-49CA263F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BA51-4ABC-4D78-B806-9ACA2522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593-674F-4AAB-B5B8-9FC9F7A8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5A67-B40D-497B-B6ED-7520A2F8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0A72-1FC3-4E12-9683-0EF0896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C941-248A-42DC-BD94-FD1D863C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9C58-220B-42C2-A398-BD317964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D9A0-6F25-4E6F-AFCB-777CCF2D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E58-FA56-450B-AFCE-3350E2B4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4C6-CD86-4C86-A4BC-B9C319D6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19E-3EA4-4D2A-9656-6EF7CF36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43A-2758-4C93-A4E9-963552E0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20F-700B-4A70-AEC9-B6FF886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2E9-8295-4F72-85FC-82E2D75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C04-298B-4C5C-9156-1878D501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1ACC-1326-481E-9118-2F77200E754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0D34-38E9-4286-9F8B-4C50742849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hnSteinbeck_TheGrapesOfWrath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obos2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ThreeHobosChicago1929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1.2: Life During the Depression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1424160"/>
            <a:ext cx="6858000" cy="40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32120" y="0"/>
            <a:ext cx="5279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over’s Philosophy: the economy will work itself out; “do-nothing” appro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cared by churches and char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tinos and African Americans had it the wor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ity/Rural differe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sychological effects/life saver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828800"/>
            <a:ext cx="64008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rate up ____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crifices: personal and profess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dical care stopp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colle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families or marria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gma was life long for some; treasure hu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The Grapes of Wrath</a:t>
            </a:r>
            <a:br>
              <a:rPr sz="4000"/>
            </a:b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John Steinbeck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JohnSteinbeck TheGrapesOfWrat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957320"/>
            <a:ext cx="317196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Going out to Cali, Cali, Cali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nemployment char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soup kitchen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up kitchens and bread lin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oovervilles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hantytowns/Hoovervill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b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employed, homeless moving from place to place looking for 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21286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3962520"/>
            <a:ext cx="266688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ust Bowl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1933-1936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ust Bowl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(1933-1936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ea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ck of water, overproduction, and windy conditions added fuel to the fi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ed in a westward mig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126540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502920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285920"/>
            <a:ext cx="6858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858000" cy="42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9:21:46Z</dcterms:created>
  <dc:creator>School District U46</dc:creator>
  <dc:description/>
  <dc:language>en-US</dc:language>
  <cp:lastModifiedBy>School District U46</cp:lastModifiedBy>
  <dcterms:modified xsi:type="dcterms:W3CDTF">2010-12-10T13:17:16Z</dcterms:modified>
  <cp:revision>28</cp:revision>
  <dc:subject/>
  <dc:title>The Great Depression Begins</dc:title>
</cp:coreProperties>
</file>